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3D6D-12BA-4530-9365-B62F15FA7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er on definition of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eight of hand - chebi is not currently disentan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at we mean when we say we get rid of diam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ly on regulation terms have their essence capt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ss vs essenti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tuou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: nothing is being removed from ontology, only enhanc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te==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356-67EB-4B29-A9B2-3F0E5B55A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C89-A5C9-42AC-828F-C1B229E8E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1E01-84E1-450E-9915-F7F13B14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F13-AED6-4A68-8CB0-9DEE6EF3F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A70F-A74B-4179-BD15-6CFB887F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B2F2-C089-4362-9EDC-D43D23CB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2C4-6CD8-4FE7-8452-33C17D9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3500-6BF9-44F8-B45D-A56897F8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727-9D2A-467F-B3D7-84D0A036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64DD-2E9A-4B59-8730-57B4510F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6655-B21B-4543-9BBD-EA66F441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5740-0F57-4FF7-AFA6-99D711D2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E690-EC2E-45D5-85DC-57AC2FDC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yuri.lbl.gov/amigo/obo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fruitfly.org/~cjm/obol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of pre-coordin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iosynthesis 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tural language (Aristotelian style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roces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ch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 in Obo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057400"/>
            <a:ext cx="8991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GO:0009058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9070 ! serine family amino acid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s_a: GO:0006534 ! cysteine metabol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lternate syntax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d in pheno-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re compac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OWL abstract 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40400" indent="-140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 use Obo1.2 format or natural language in the rest of this pres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981080"/>
            <a:ext cx="8991720" cy="642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cysteine_biosynthesis =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O:biosynthesis 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∏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outputs(CHEBI:cyste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is allows us to dynamically untangl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axis view (primary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, via generic term)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logical_proce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etabolis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 biosynthesi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 participant axis view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mino aci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serine family amino aci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4" marL="17899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cysteine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bined vie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same as current tangled diamond lattic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46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l dem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yuri.lbl.gov/amigo/obo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cording the relationship is importan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y not just a simple cross-product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 biosynthesi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hips are important for reasoning and query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: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cysteine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biosynthesi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serin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mRNA export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during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Gill Sans"/>
              </a:rPr>
              <a:t>heat stres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out the relations, the logical definition is not specific enoug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not captu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lations should come from R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re requir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Multiple discriminating characteristics are allow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ysteine biosynthesis from serin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eneric term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scriminating characteristic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serin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83080"/>
            <a:ext cx="8534520" cy="146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 from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input CHEBI:17822   ! ser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be nes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981080"/>
            <a:ext cx="8686800" cy="311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xxx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regulation of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50789 ! regulation of biological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regulates GO:0019344  !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erm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: GO:0019344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ame: cysteine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GO:0009058          ! bio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ion_of: outputs CHEBI:15356 ! cyste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5181120"/>
            <a:ext cx="81532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^outputs(cysteine)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gulation^regulates(biosynthesis)^outputs(cysteine)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7148160" y="518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Gill Sans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43920" y="5637600"/>
            <a:ext cx="6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ite terms can optionally be manufactured in bulk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eneric term: {metabolism,biosynthesis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: </a:t>
            </a:r>
            <a:r>
              <a:rPr b="0" i="1" lang="en-US" sz="3200" spc="-1" strike="noStrike">
                <a:solidFill>
                  <a:srgbClr val="000000"/>
                </a:solidFill>
                <a:latin typeface="Gill Sans"/>
              </a:rPr>
              <a:t>has_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{serine, cysteine, …}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ith caution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parse vs dense matric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combinations are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n the importance of necessary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nd sufficient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nd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ntersection_of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y not just make normal links in the GO DAG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rmal relationships are for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ill Sans"/>
              </a:rPr>
              <a:t>necessar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s onl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want </a:t>
            </a: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necessary and sufficient conditions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ptures 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of the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O terms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mplicitl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refer to other te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cystei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biosynthe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myoblast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f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hydrogen 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ransporter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snoRN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a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wing dis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pattern 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epidermal cel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gulation of </a:t>
            </a: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flower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interleukin-18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receptor compl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B-cell</a:t>
            </a:r>
            <a:r>
              <a:rPr b="0" lang="en-US" sz="2400" spc="-1" strike="noStrike">
                <a:solidFill>
                  <a:srgbClr val="008080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ifferent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8080"/>
                </a:solidFill>
                <a:uFillTx/>
                <a:latin typeface="Gill Sans"/>
              </a:rPr>
              <a:t>dors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ectod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Normal DAG links only capture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necessary condition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, not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952880"/>
            <a:ext cx="3276720" cy="173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acrophag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ndistinguishable by DAG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2590920"/>
            <a:ext cx="247788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410080" y="4419720"/>
            <a:ext cx="1981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952880"/>
            <a:ext cx="327672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hange in morphology and behavior of a monocyte resulting from exposure to a cytokine, chemokine, cellular ligand, pathogen, or soluble fa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1840" y="457092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xt de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onocy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472428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2590920"/>
            <a:ext cx="2478240" cy="939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114800" y="35809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3016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3429000"/>
            <a:ext cx="247824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5000" y="441972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18320" y="479952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aptured by genus-differentia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7242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86200" y="28954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mmune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256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77920" y="38851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77120" y="2895480"/>
            <a:ext cx="2477880" cy="939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flamm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934320" y="3885840"/>
            <a:ext cx="8380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42200" y="4418640"/>
            <a:ext cx="12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480" y="5842080"/>
            <a:ext cx="627660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: GO:macrophage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GO:cell_acti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urier New"/>
              </a:rPr>
              <a:t>intersection_of: activates CL:macroph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648320"/>
            <a:ext cx="20574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L:macroph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05120"/>
            <a:ext cx="175284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133720" y="25146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20520" y="2513520"/>
            <a:ext cx="71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752480" y="2895120"/>
            <a:ext cx="2895840" cy="1752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39560" y="3580200"/>
            <a:ext cx="10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ge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2285640" y="5028840"/>
            <a:ext cx="21337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92640" y="51044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activ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 of pre-coordinat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 already contains composite ter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6 pre-coordinated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ilenced 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s a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en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which has the quality of being 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lenc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-BP/CL integration under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trospectively pre-coordinated term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bol page has pre-coordinated terms from automatic parsing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Gill Sans"/>
                <a:hlinkClick r:id="rId1"/>
              </a:rPr>
              <a:t>http://www.fruitfly.org/~cjm/obo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vs post- coordinated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in ontology with IDs and computable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reases complexity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lexity can be managed by tool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new oboedit featur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t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erms are combined in the databas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ces more complexity in database schema and database applica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coordination is useful in modera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only used terms should be pre-coordinated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g cysteine biosynthesis; oocyte differentiation; pectoral fi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void taking to extrem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f ICD-9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do we draw the lin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ies should be built around one or a few axes of classificatio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term ‘explosion’ typically gets large when multiple axes are combin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an change our minds later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pre- and post- coordination is commensurab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53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mensurabilit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or annotates t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ucleus^part_of(astrocyt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atomy editor creates new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s oboedit cross-produc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trocyte_nucleus = nucleus^part_of(astrocyte)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notation can be dynamically ‘promoted’ to new term in answer to quer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arious software techniques for achieving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ordination in GO annota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e- and post- coordination are compatible and commensurab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 should extend the annotation format to allow denoting more specific clas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lesterol transport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liver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vanced applications can query thi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tandard applications suffer no lo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ended annotations can be used to help seed new terms in the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is is already being done (MGI,Dicty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just want to capture this in interopeable 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ost-composition in gene association fi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696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w column in GA file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819520"/>
          <a:ext cx="8915400" cy="2549520"/>
        </p:xfrm>
        <a:graphic>
          <a:graphicData uri="http://schemas.openxmlformats.org/drawingml/2006/table">
            <a:tbl>
              <a:tblPr/>
              <a:tblGrid>
                <a:gridCol w="2228760"/>
                <a:gridCol w="1733760"/>
                <a:gridCol w="914400"/>
                <a:gridCol w="40384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ene Produ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Term 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pert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30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cholesterol transpor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located_in(MA:l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AAB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:00486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neuron fate develop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has_participant(FBbt:Y_neur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atabase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ado and GO DB can handle pre- and post- coordin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 theory anyway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yet fully tes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does it work?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onymous term’ created for coordinated ter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cumentation in chado cv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hado/modules/cv/doc/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464832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5257800"/>
            <a:ext cx="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86000" y="46022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osed terms currently cause proble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link to external ontology ter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dunda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consistenc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tra wor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notation bottleneck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 and confusing display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we have no way to disentangl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 so far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 errors based on results of term name parsing (Obol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active, not proactive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olution: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actively manage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composed term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licit pre-coordin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posed terms should now/soon be coordinated using oboedit plugin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ilding block terms are </a:t>
            </a:r>
            <a:r>
              <a:rPr b="1" lang="en-US" sz="2000" spc="-1" strike="noStrike">
                <a:solidFill>
                  <a:srgbClr val="000000"/>
                </a:solidFill>
                <a:latin typeface="Gill Sans"/>
              </a:rPr>
              <a:t>recorded in ontology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along with composite term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rrect DAG structure can be inferred from external ontolog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 make sure GO + CHEBI “align”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lacement &amp; consistency checking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dditional work can be autom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, text definition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How will terms be pre-coordinated by oboedit?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record a definition for a composite ter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ing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logical definitio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computation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ssenc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logical definition consists of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 (aka genu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lationships to other terms which serv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his specific term from oth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hildren of the generic term (aka differentia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an be written in natural language as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generic term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 which &lt;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discriminating characteristic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8-01T00:06:08Z</dcterms:modified>
  <cp:revision>1111</cp:revision>
  <dc:subject/>
  <dc:title>Ontologies for biological annotation</dc:title>
</cp:coreProperties>
</file>